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好久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好久不见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랫동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ǎoji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弟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弟弟很可爱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남동생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ìd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可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很可爱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귀엽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ě’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很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배고프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最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最近很好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요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ìjì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怎么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最近怎么样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떠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ěnmeyà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还好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런대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还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괜찮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í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忙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不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不太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그다지 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…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하지 않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ú t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很累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피곤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è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不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好久不见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만나지 못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úji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不渴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목마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굴림"/>
              </a:rPr>
              <a:t>~  </a:t>
            </a: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死了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渴死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6"/>
          <p:cNvSpPr/>
          <p:nvPr/>
        </p:nvSpPr>
        <p:spPr>
          <a:xfrm rot="10800000">
            <a:off x="403200" y="645768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∼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해 죽겠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~ sǐ l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你好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입니까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a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很好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저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ǒ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很好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매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ě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呢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는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我也很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很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덥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很忙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1:34:49Z</dcterms:modified>
  <cp:revision>58</cp:revision>
  <dc:subject/>
  <dc:title>슬라이드 1</dc:title>
</cp:coreProperties>
</file>